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5E4-B2CF-4281-BC21-885AACDA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6A9-4DCF-4A8C-B44B-BB1648D5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8C5-053D-449D-AED6-4038BAEC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8960-682C-482F-B3F7-38258227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41F-E56C-4D97-83FF-5F57C4BE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E92-301D-4AFA-9E22-019F6FDF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7EF-2792-4B82-8B42-6A5C184D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584-5661-43E4-95C8-F0776D37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0CC-611D-405C-80BD-6E66F0B9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3F4-EC69-4E3E-AA05-9270EC70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8F2-937C-4EC5-AEA9-E46E09C0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5B3-E82D-4030-9C46-474D8D18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3223-CD85-404C-94F9-AB853C241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’ve been, where we are and where we are go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formation go to the history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dline fo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of study is NOT a dirty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ahead of other curriculum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LEADERS and we want to stay that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??? Program of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and refreshing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a job it’s a career choice for stud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with designing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will be alone-- schools will be united from district to distr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inforcing other models being ta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s what is ta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YOUR community need? Find out… advisory committe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abilit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wareness of other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&amp;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9:33:55Z</dcterms:created>
  <dc:creator>Kelley Ritter User</dc:creator>
  <dc:description/>
  <dc:language>en-US</dc:language>
  <cp:lastModifiedBy>Kelley Ritter User</cp:lastModifiedBy>
  <dcterms:modified xsi:type="dcterms:W3CDTF">2008-04-14T19:54:59Z</dcterms:modified>
  <cp:revision>1</cp:revision>
  <dc:subject/>
  <dc:title>The Big Picture</dc:title>
</cp:coreProperties>
</file>